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040-3390-4D1A-B462-6C25C83A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D5F-F1BD-492F-9B6A-A707C1A2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3DB-6066-4732-A141-3D0DA773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968-2D44-421E-A050-A7D1CC18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0FE9-E6D8-4C40-8403-F36FE3D4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C386-625A-471A-AD1C-3322D4AE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2D83-25C5-4CE4-89C0-6E38E761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4DDB-BF38-44D0-8544-4CFDA070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7274-A402-4ACB-9FB0-3D41D7E5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F258-5086-446F-A895-DE4EE450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948D-6604-4FC7-94FD-5918EB6F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3DA-8F08-4B05-A1D9-20ECC0FB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1E0B-3178-4984-A586-8360C697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CF09-9212-4FB9-B573-32407C26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9068-39BB-4CE4-8B11-051EA8CA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A099-EE7A-469D-9701-EC64D618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B272-76C9-44F0-B644-37BE6F9B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5FD5-90AB-41FA-B719-E19C08F7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BEC1-A36D-4D1E-B81D-87AE2CA5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47D4E-7A35-4478-93B1-91603DF6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12D7-D54C-40B3-B550-FB2ED52D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E210-82A9-47F2-93F2-FC4515E8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706-101F-4CBD-A9E4-8AC1B63D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5B3A-3469-4B72-B38E-93CF17AD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CC39-19EB-4101-8677-9FC1B7AC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FBC21-DA00-4368-81B9-76C563B0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A484-E143-40C6-B470-8E8B63A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B782-395B-4FB1-82D9-27D21C8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3DFD-1C10-4C98-BE6A-B0966CC4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D61C6-47C8-49B8-A706-85A6E4BA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BD775-ADAF-401D-8D2C-51475AEA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2993-62C2-478B-8FA5-8CDE52B9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D041-46E2-4B0D-B4FD-8C6919F9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ED7-BC7B-4385-9EFE-4C1773F6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E6A7-361C-4802-8801-22FF7B70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A18E-712A-405A-9E24-0B7E21D6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839E6-AF90-45DA-A7DD-5A4C5A62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E8EAF-429D-472E-A9CE-57F8723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9BFBD-F6D1-4D3A-BF0F-F5FBB02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1D7C5-FAF5-47C3-A006-B436DBEE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FE98-9497-4CFE-863B-476A0E1A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A46D5-3B61-4B64-8D8D-4B1C569C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4B308-668F-49A1-9B7B-CEB4B7F6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380-DDF8-4070-AFE0-AF8C8C6C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117-0BF2-4A93-A8BB-E69DB6CB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568-1FC3-4163-92A2-E3A7A68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D98-BB5E-44E6-96DA-E9B3F89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621-02E8-46FA-8E5B-0561809D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3DDA-3368-484C-B465-F1F7C7F4CE7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4A00-F6BF-49B2-8146-5DA66DDD49A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9E35-D26E-4115-A2A7-A7E52F79D38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4DD2-DC9A-4123-B956-02F01E3EACD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429680" y="14292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3"/>
          <a:stretch/>
        </p:blipFill>
        <p:spPr>
          <a:xfrm>
            <a:off x="6345360" y="0"/>
            <a:ext cx="2798640" cy="21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5"/>
          <a:stretch/>
        </p:blipFill>
        <p:spPr>
          <a:xfrm>
            <a:off x="0" y="407196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3000240" y="3960720"/>
            <a:ext cx="328644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6286680" y="3857760"/>
            <a:ext cx="2822400" cy="30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4"/>
          <a:stretch/>
        </p:blipFill>
        <p:spPr>
          <a:xfrm>
            <a:off x="0" y="4511520"/>
            <a:ext cx="3070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3"/>
          <a:stretch/>
        </p:blipFill>
        <p:spPr>
          <a:xfrm>
            <a:off x="3071880" y="4500720"/>
            <a:ext cx="2855880" cy="2357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0" y="4470480"/>
            <a:ext cx="3143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Admin</cp:lastModifiedBy>
  <dcterms:modified xsi:type="dcterms:W3CDTF">2022-11-23T20:21:51Z</dcterms:modified>
  <cp:revision>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